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113-0389-4442-B4B0-A2610779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18C-07D5-4E33-A92B-2445B18F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31A-8271-42ED-9CBB-F5BEEB97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648-1910-4D4F-8652-1CD80F44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ADEB-FD67-470B-9EB7-F28DAAF7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69A4-5486-459F-A152-1E0604B4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7AB6-2316-4761-A73C-B0A51DF1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1991-1036-4D24-AEDD-2259F7B3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04DE-F679-4710-B03D-8784B797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1CFF-1009-43CB-B183-C48D27CE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C98E-E7A0-40EE-A9D6-A7A7CDD3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4BE-70CC-486A-ADA4-F09455C6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B37E-CFA0-49DC-B2C7-C903A5B0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9C84-23B3-43CB-8443-C7E95B29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A8C5-5C31-4BFE-A25F-E4B5AB43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40EE-BDC8-4A32-AAEA-CA4C3B4D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C9DC-38FE-4E61-87C2-ECE249D4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5A1E-98B5-4C05-B8D2-C72F7ADB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7152-966A-4E9D-B289-FE50925F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946D7-F96F-45B8-A153-B5D78C08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7694-791C-4475-BD86-BD9A71BF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B03D-F388-455B-8726-E9D782FD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450-CFB5-4DCD-ACC2-8E5B1634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6093C-43F2-4D0D-B849-7E0C4EDC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B299-319A-4409-A6E2-DFF10B92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38873-2BA6-456E-AAD3-54431E51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A003-B4D1-40AA-AE39-AB2ADABF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91FB6-45A8-4648-9480-FFF61233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CED4-6B85-4D95-B413-0E3EF04E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03A5-3FF6-45FF-B991-D79F860B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43B3D-1283-46A4-976B-76ADA09C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2D717-00FE-41A1-8B1B-BE884EC0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F056A-19D6-4B90-843D-693D6939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39B-4755-418C-B6E4-4148B9AE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955CD-7E03-4C6C-9BEB-0FD4369B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DF28B-E2D2-4F05-8B23-A884B92E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D927C-E0F3-4268-947C-B0AEC620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A6327-3213-4FC1-8F8B-7D703659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6D626-125E-4CBF-BEB7-C5A630BA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5F06D-6828-48D1-8AB5-8A49711A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A9073-E546-4C77-B8E5-A1C68CC2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C16EB-7710-4C72-BD69-C54C8E43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D03B0-4510-4A62-BA4B-AD1ED2FD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39814-E0BC-499E-9D79-0ABF0656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AF0-117C-43B2-8675-70A28A94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75678-6C81-49A4-9B5D-1FE005E8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18C41-8EF2-4ED1-9C95-5BF5E0FE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59603-50B9-4A02-8757-82790A33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58AE1-5646-4F92-9146-A541475C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CAAF5-AEE7-4EE3-BE91-A51149F2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CD546-199F-4262-BA16-07798BDF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75B26-5D42-4E4F-807A-C6CA8D0A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61B9B-A623-4404-8403-DF1D1A70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613AB-8F4F-453C-83F1-2D8F0FCE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8A0D1-207D-4481-A70B-51A76743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E3C-5A8B-4D27-A8B6-761FD0D6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A00DE-B07D-44F3-BB78-D1822741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A4D05-ABF8-4FAB-8D85-24D79FE7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F7D31-E1A7-4F15-81AA-4C76B679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8980C-A7EF-406E-A1E2-2E4DF25C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F8C97-138C-4AD4-84B4-E55E5F38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54613-DA54-4203-989D-C44F93E6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9238B-AC9D-4C75-9FA4-A3A592BB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3ED63-7B92-46E8-9535-9615338B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FF181-E160-464C-BDC2-2CC3AF97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97967-4C94-4B7F-85F7-28436ABE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82F-9160-44DC-86B8-1A7838D0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6B825-921E-4297-B102-76ED28BE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8588E-B293-47ED-B871-2C764B66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56ABE-E2A9-407E-A8DA-68E6A186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B6441-27ED-4539-9572-5CE54D35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EBD07-0B34-4E70-9622-85AC1E5B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EFB1E-C7E9-4FAE-88B2-8E178EBD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08C31-E9E2-417A-91F5-21F44082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D44D-130F-4AAE-BD12-5020DCF3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02498-C318-4E42-9E9F-1DA7EF0F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7816D-375D-4136-98F0-6EE616B6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B69-940A-4B67-9325-AB31B377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AB9F9-AABD-4BED-A31C-4C9CABF0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EC5C8-CF60-4FF5-94E6-BD33EB0A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899E6-6151-4225-B7F9-66FDF244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ED443-5718-408B-82E9-9B0A8B4E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9318C-6FC7-473E-850C-19B3D6DD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C61-9493-413C-B719-DB33A390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DE34-AA38-4FF3-AA64-A6516A50672E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ă liberă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ă liberă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ă liberă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ă liberă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9F69-141E-4F2D-8D51-C55FB81B7CAD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ă liberă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ă liberă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ă liberă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E82A-A12C-4B20-9D8A-CA1D4C52F8CC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reptunghi cu un colţ tăiat şi rotunjit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unghi drept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ă liberă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ă liberă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89B4-4744-41D1-831F-54E7FB35053E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rmă liberă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rmă liberă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ormă liberă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D386-E26B-40C6-A070-F71249D9F09B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rmă liberă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rmă liberă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ormă liberă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1375-723E-448D-9198-67A8B732C674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rmă liberă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rmă liberă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ormă liberă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0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C4BA-E72D-4E31-AAFC-7282EF97AA1C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378000" y="603360"/>
            <a:ext cx="7680240" cy="1822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-1219680" y="426708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0000"/>
                </a:solidFill>
                <a:latin typeface="Monotype Corsiva"/>
              </a:rPr>
              <a:t>FRANCE2.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347" name="Picture 4" descr="C:\Users\Elev\Desktop\france-2-logo.jpg"/>
          <p:cNvPicPr/>
          <p:nvPr/>
        </p:nvPicPr>
        <p:blipFill>
          <a:blip r:embed="rId2"/>
          <a:stretch/>
        </p:blipFill>
        <p:spPr>
          <a:xfrm>
            <a:off x="5851440" y="3352680"/>
            <a:ext cx="29116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00"/>
                </a:solidFill>
                <a:latin typeface="Comic Sans MS"/>
              </a:rPr>
              <a:t>Les programmes sur France2:</a:t>
            </a:r>
            <a:endParaRPr b="0" lang="en-US" sz="44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560" y="1447560"/>
            <a:ext cx="83818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70c0"/>
                </a:solidFill>
                <a:latin typeface="Comic Sans MS"/>
              </a:rPr>
              <a:t>Documentaires</a:t>
            </a:r>
            <a:endParaRPr b="0" lang="en-US" sz="34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lnSpc>
                <a:spcPct val="100000"/>
              </a:lnSpc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70c0"/>
                </a:solidFill>
                <a:latin typeface="Comic Sans MS"/>
              </a:rPr>
              <a:t>Series et fiction</a:t>
            </a:r>
            <a:endParaRPr b="0" lang="en-US" sz="34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lnSpc>
                <a:spcPct val="100000"/>
              </a:lnSpc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70c0"/>
                </a:solidFill>
                <a:latin typeface="Comic Sans MS"/>
              </a:rPr>
              <a:t>Divertissments</a:t>
            </a:r>
            <a:endParaRPr b="0" lang="en-US" sz="34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lnSpc>
                <a:spcPct val="100000"/>
              </a:lnSpc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70c0"/>
                </a:solidFill>
                <a:latin typeface="Comic Sans MS"/>
              </a:rPr>
              <a:t>Juex</a:t>
            </a:r>
            <a:endParaRPr b="0" lang="en-US" sz="34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lnSpc>
                <a:spcPct val="100000"/>
              </a:lnSpc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70c0"/>
                </a:solidFill>
                <a:latin typeface="Comic Sans MS"/>
              </a:rPr>
              <a:t>Sport</a:t>
            </a:r>
            <a:endParaRPr b="0" lang="en-US" sz="34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9720" indent="-245880">
              <a:lnSpc>
                <a:spcPct val="100000"/>
              </a:lnSpc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70c0"/>
                </a:solidFill>
                <a:latin typeface="Comic Sans MS"/>
              </a:rPr>
              <a:t>Magazines</a:t>
            </a:r>
            <a:endParaRPr b="0" lang="en-US" sz="3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4617b"/>
                </a:solidFill>
                <a:latin typeface="Comic Sans MS"/>
              </a:rPr>
              <a:t>	</a:t>
            </a:r>
            <a:r>
              <a:rPr b="0" lang="ro-RO" sz="4000" spc="-1" strike="noStrike">
                <a:solidFill>
                  <a:srgbClr val="04617b"/>
                </a:solidFill>
                <a:latin typeface="Comic Sans MS"/>
              </a:rPr>
              <a:t>	</a:t>
            </a:r>
            <a:r>
              <a:rPr b="0" lang="ro-RO" sz="4000" spc="-1" strike="noStrike">
                <a:solidFill>
                  <a:srgbClr val="04617b"/>
                </a:solidFill>
                <a:latin typeface="Comic Sans MS"/>
              </a:rPr>
              <a:t>Culture</a:t>
            </a:r>
            <a:endParaRPr b="0" lang="en-US" sz="40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Enumer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 toate emisiunile de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iri (sportive, meteo, culturale) pe care programul ales le prezint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Kanye West rend visite à Occupy Wall Street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mic Sans MS"/>
              </a:rPr>
              <a:t>Introduce</a:t>
            </a:r>
            <a:r>
              <a:rPr b="0" lang="en-US" sz="2400" spc="-1" strike="noStrike">
                <a:solidFill>
                  <a:srgbClr val="04617b"/>
                </a:solidFill>
                <a:latin typeface="Comic Sans MS"/>
                <a:ea typeface="Arial"/>
              </a:rPr>
              <a:t>ţ</a:t>
            </a:r>
            <a:r>
              <a:rPr b="0" lang="en-US" sz="2400" spc="-1" strike="noStrike">
                <a:solidFill>
                  <a:srgbClr val="04617b"/>
                </a:solidFill>
                <a:latin typeface="Comic Sans MS"/>
              </a:rPr>
              <a:t>i cateva informatii generale </a:t>
            </a:r>
            <a:r>
              <a:rPr b="0" lang="en-US" sz="2400" spc="-1" strike="noStrike">
                <a:solidFill>
                  <a:srgbClr val="04617b"/>
                </a:solidFill>
                <a:latin typeface="Comic Sans MS"/>
                <a:ea typeface="Arial"/>
              </a:rPr>
              <a:t>ş</a:t>
            </a:r>
            <a:r>
              <a:rPr b="0" lang="en-US" sz="2400" spc="-1" strike="noStrike">
                <a:solidFill>
                  <a:srgbClr val="04617b"/>
                </a:solidFill>
                <a:latin typeface="Comic Sans MS"/>
              </a:rPr>
              <a:t>i atractive despre tipul de emisiune prezentat mai sus</a:t>
            </a:r>
            <a:endParaRPr b="0" lang="en-US" sz="24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Introduce</a:t>
            </a:r>
            <a:r>
              <a:rPr b="0" lang="en-US" sz="3600" spc="-1" strike="noStrike">
                <a:solidFill>
                  <a:srgbClr val="04617b"/>
                </a:solidFill>
                <a:latin typeface="Comic Sans MS"/>
                <a:ea typeface="Arial"/>
              </a:rPr>
              <a:t>ţ</a:t>
            </a: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i alt tip de emisiuni difuzate (ex. seriale)</a:t>
            </a:r>
            <a:endParaRPr b="0" lang="en-US" sz="3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 numele emisiunilor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 repet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 aplic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a pentru fiecare tip de emisiune difuzat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, respect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nd formatul de mai sus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 o imagine la alegere (prezentatori TV, actori ai unui serial, etc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La une (emisiunea cea mai interesanta de pe postul respectiv)</a:t>
            </a:r>
            <a:endParaRPr b="0" lang="en-US" sz="3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Descrieti pe scurt emisiunea care v-a atras atentia inserand o secventa filmata din aceasta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De ce postul tv respectiv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omic Sans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Motivati modul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î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n care postul tv ales v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ă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influen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eaz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ă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via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a de zi cu zi.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Argumenta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ţ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i r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ă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spunsul din perspectiva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î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nv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  <a:ea typeface="Arial"/>
              </a:rPr>
              <a:t>ăţă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rii limbii franceze.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v</dc:creator>
  <dc:description/>
  <dc:language>en-US</dc:language>
  <cp:lastModifiedBy>user</cp:lastModifiedBy>
  <dcterms:modified xsi:type="dcterms:W3CDTF">2011-10-18T19:15:0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